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D5E-B982-417D-B0CF-994A026B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16B-91AD-4515-AE4D-4338CDEB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0ED-D2DA-4D1E-B11D-F6333E3A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CA7-0AA6-4F3A-8780-29E7A905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99A-67F8-46F7-AC6B-490349EE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2DD-DBEF-4A5B-B0AA-73CBC75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B14-06EF-4D3B-A3D7-A0BC8AF0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79D-B7B7-4AF2-9A68-2582E9AC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686-CE1C-4118-91C0-9E45C6A6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4BA-029A-4290-95F8-447314A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7B6-C0CF-4B60-8922-D58C5583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395-32EC-4499-B1EB-421F93F7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69BD-E553-44CB-8E46-41C8D94BC2D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6 Ako harfy zvučné tó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arfy zvučné tón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by chválospev náš zne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mu, ktorý v nebi tró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d nami verne b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eťou je vrúcnej vďak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ša ranná modlit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eď slnko zastrú mrak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a letí do ne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ám s novým svetlom rá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vá milosť svitla z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ým srdcom chváľme Pá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e vykupujme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18:45Z</dcterms:modified>
  <cp:revision>69</cp:revision>
  <dc:subject/>
  <dc:title>Je veľký náš Pán, on slávy je Kráľ Nech do všetkých strán  spev vrúcnych znie chvál.</dc:title>
</cp:coreProperties>
</file>